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D85D-21F6-4092-9130-F34F8CF2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FBE4-76CF-42F9-942C-4B84795F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D7CCA-DAE6-4B0A-B63D-6824D39D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6E5AE-ED1E-4F1A-9C4C-611AB103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E0250-E2A9-4140-83E4-5C0BAE4E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4B6BB-D0EB-4374-963C-CC2BB88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3C8C5-E707-456F-A6ED-CE321421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B8AD3-3330-4D20-94AB-73A250F1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C053F-0934-4021-8C72-C3B550F2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86C78-149B-41D7-9478-B78472AE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3EDDB-8D36-4B94-B335-07C312AE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B0F3-878B-46E7-94A4-E410849F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7FD-7084-409B-97DE-BDCFD9D5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54B80-282A-45A6-80E5-7EF4979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9E720-EA31-43F9-912C-B91D950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A43FC-A86E-4540-8B2A-81F746DD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8B834-BCA8-45ED-B63C-6314A702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E393E-E2F1-4E8B-ADBD-B8E75A2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E3277-5A50-475F-82D3-2B443A40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A74E4-7B14-4E96-914F-74FC391F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CA849-6EC7-435B-A843-3F2BB12B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E530D-33A4-4BC9-8102-1E0C8D2D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7AC95-0990-47D0-AA20-AC70B889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C9E-3D82-4384-B81B-35D6196C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1C048-55BC-481A-A1A9-F421E4BA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E1BD4-37D4-494B-99ED-C7CD7972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925CF-861D-46DE-B03F-6B1B2CE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91B8F-D407-4E89-9125-02248F1A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580AC-6D9E-4EC0-BA01-8D527EE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5533B-6A2F-4C2C-BF66-8ED8B23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D4B3B-5EF5-4FA7-823B-5F4050C3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F492C-056D-4D77-B920-6424194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15361-450F-4BBC-B40E-96304DA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1E913-BF4A-4320-B349-CAA0416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3CB5-4CC4-45B1-9F22-84DA47F8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0459-F8C8-4B23-8538-DC193D76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4F606-AF66-4B95-BF8A-5A72D8A2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2D74B-3520-4E0D-A35A-1D618F9D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24BE7-883F-4305-9161-3793384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03DAD-EEEE-48B4-A0D1-AEAF1C9E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F49F3-49F3-43DB-BBAF-F555D2DC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5EA7A-0DF2-4B3C-ABA8-6CA9082A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5BDED-78AE-4626-B838-A3391A39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53453-EDEE-4C2F-BD1C-DFF9316F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FCCF8-AE25-42AD-A06C-7717C529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049-99C0-492C-AD85-3A1486D9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773AD-93E8-4AC7-BDCC-2DACCE0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A7A10-9CDE-41A7-B382-FC90ABF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6DA63-BABF-4CF7-A1AC-9AAEC81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C3198-053E-4751-8E94-3CF4A6F6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4AC09-70FD-4EC6-9E09-6A1B426D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52783-D125-4B5F-BA6F-2FAC7920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C3CF4-4081-4F7A-8814-413EAF12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5337D-833D-403E-9D98-0B86DF28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65DF7-BF2A-4042-8CA2-DA038CF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3018B-3DE2-4131-8671-0ACA501B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549-7BFF-4862-95C7-0AE56528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C9945-5BA4-4210-970F-44B8BD0C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8C42B-430A-4FE1-BF04-D1D4384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54A1F-DA78-422A-9764-BBE87A09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C8069-C815-4EC9-AA66-93E84AF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64132-38C4-4320-8FAC-3738530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AABE0-D9B5-4F6A-A7AD-DF4872D9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2E56E-2FC6-4AC9-9791-14F99DDD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D570F-A20B-4933-A9BA-957477F1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34247-1A4A-4ED2-9B63-F65A742A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0BB99-56E8-4E1F-AE0C-9A8D17E2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77B6-E93C-4E23-BBCE-086C60A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5B0CB-FFF2-45A6-B848-480AF71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31E28-5BB8-4864-9E65-83481B4B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AD6F5-12F0-42A8-B879-9F28AFEC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4B024-E42B-4BDE-827A-17A2C56A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B75778-D3A6-4CFF-A208-A251675A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CB8BE-891C-417D-A1E3-D556041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EBBFF-8968-4F2A-8B62-EA4DD3F6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CC1953-6EC4-4C2C-8CE6-0BF7C7FD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02051-22DB-469C-9FD7-E4A60205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936669-D302-44EC-9893-C6C50CFC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9A7E-26ED-43B8-9A19-9FC31F54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78C5F-0ECF-45F3-87B6-6F57AD1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AA21B-0655-4F13-9C3C-37E55FBF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C2092-1778-45F2-89A0-F8D0D6F6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B0C8B-3FB8-4595-9439-7C6F5446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5AB49-FBFA-4442-BB3C-6DA57C22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BAC6A8-23F6-4630-92E1-6B247384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B8B8B8-ACD6-46F7-9E59-DFE8DCA8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74990C-EBB2-4601-B118-AEBFB9B0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BC549A-6257-402C-A6DF-E29313E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B291B-6B01-415B-B037-E748B81C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60A7-1C76-41B6-B3BC-D1CC258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00A2D-10E1-477E-B822-46763249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1BB44-2209-43A2-A838-90170DF5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05F3E-777C-4376-8EC1-0AE76917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FBC58-5406-4BBB-AC75-EBAA3479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8C56B-4C02-4B15-A741-CCE8E070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0139B-2D80-4EDD-A779-D3078485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8CBD1-6C16-4909-A619-D1F028B4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FDB9C-B495-487F-8409-2A7BB96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F49CA-58B1-4269-93EC-E1F6D63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772FE4-AF51-4159-814A-011667C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6504-1799-483F-AF59-D87310C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EF5CC-F8F9-4CCD-AF86-B432C5C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6197D-415E-4F4B-8F65-985372FE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936239-F545-4457-8B53-972386F0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C04936-43F7-411C-9183-CBF3AC4A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8E7B1-E7D0-472A-A60E-C828E2AA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1064B-0BDC-4A0B-8630-0FDA5E2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A818A-FAA7-42CD-9EEA-BC068918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2879EE-117D-42F9-AB1B-0F828CD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F3D4E7-5762-4F91-9D73-EB6FAB68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D6D97B-9588-4CE2-A5FE-CD96EE82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5CC-A31A-41B5-949A-80A9FB36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17C5-B401-46BF-A81A-239C085B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D2FE2-7BBE-41CA-B3CC-9BA92AFB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97138-084C-4C7A-A7FF-532E8935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1FD96-4FE2-4E43-B0A0-E3CFC11C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4D830-D572-4B6A-866D-F9BC3035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1725BB-069A-46CB-9DFF-33A4519D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3B553A-E957-4E6D-9E47-0B07414A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47258-6863-4FD0-BDEF-823ECE6D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980879-7675-4669-9886-DA61CCCE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035FD-E1CD-4FFD-9EB8-C54DA43F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64ED7-7104-4DB8-A484-B9131EB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A0E7-5D2D-4EE7-B8C6-6EB0117D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D7E93B-E943-4CBA-B5E0-6885E5D3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1F3F9-E54D-469B-B1BD-69C9439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F2475A-3549-4CA1-A631-0F3B29E8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F29320-9CD9-448C-A330-F9CB26F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11E9CA-F033-4A0D-AB2B-5C34216C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6431E-5EBE-43A8-9A0C-75C0FDD8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F856A-0DB8-444E-B45E-29AC112E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402D7-D3B0-41E1-93D5-C446CD53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080BE-20E2-4B8F-B427-4917D59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62913-660D-44C4-9239-05955F0D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61F0-8690-4315-9DA2-8177ECB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CDA0E-CE34-4BCB-97DD-17C42AD5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E8D043-9D8E-4C90-801B-FC80DDA5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63A7C-A6D0-46C8-B916-2120CB09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4F1CDE-35A0-4219-9CA6-6973F42F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36A97-DC3B-4592-9576-41A2B8AF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57BB46-D87D-40DA-9094-D4DAE8C0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4CD2F-17BD-4C36-9B4D-734C0F8A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1B899-B007-4F9F-9FE0-90A6532C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69232-D320-4262-9DF7-551ADA09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1B109-1703-48E6-ABDB-03F0EF86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6D6A-249C-4636-8769-6BAE04CF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D96806-AEFF-4A8A-8E29-4DCEE2A3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0A7C08-3384-4C5E-9B70-AE70D7B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0EF6E1-C5D9-4141-826F-A798EC83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545FE-36D6-4D64-ADB6-B12464A2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CB044-A438-42C4-A452-84FE478C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4CDF9-0BB5-4417-9257-68B90DAF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656B1-13D1-4C69-A462-613DBAF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BCF75-8BEA-4050-AE22-551C3359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47C82-2E83-4606-AFCF-C61D778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27C39-F326-4B84-B097-313848F5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1E15-BCE6-424A-8E79-5DF62314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255887-EEF1-454E-B7F0-1B435A94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E2453-3C6F-40DA-9F92-F1C061A9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7AA149-930E-451A-BDA8-F779DB5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580D6-DF42-4889-B9BB-67726E73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2F8C9E-BDB0-4E29-9098-2E06CD75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866A9-E886-4688-862D-C576C1C5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36669B-2FA6-4F63-A57F-33C5F6B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FFD9E-E632-4DE4-A103-07DD451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AE13A4-C980-4475-B14F-B2F4D81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B85FF-A62A-483B-8FCB-0D0BAB7B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6679-3CF2-47B5-86A3-81B77162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CB0F6-0B1E-4EF8-A555-AE8D8EAA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EB54E-224D-436F-8BBE-E07FB653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238858-3865-44AB-B817-BD301521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F5AEC-47DC-4FF3-B803-FC806D89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313267-1027-43BB-BB38-0357BA69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02D55C-D81B-4C00-9DFA-BF63700F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D386A2-4A7C-4AEC-88C1-C21DF328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5558F3-F395-4071-A114-D3853D60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016203-57EB-45D0-AF08-21CC284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2776D5-1D2B-4C61-89F1-A0F0F1DD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AC7E-222D-4E26-9E84-013C09B6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B71FEC-97B9-43B3-9F2A-F6A32260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760B6A-E6C0-41D7-ADD2-CA5016B2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BDF606-4C76-4439-B4AC-2DEB1B1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EBDD7D-757E-4B6B-B464-D8DE4C70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6D549-D8DD-41E4-B57B-65D9A1A4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D0E041-9FD4-4FAB-B632-2D516C25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661CCD-31BF-4056-8E7E-262F4F3B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B9F51-3FC4-4A9A-A4DF-55AC09CE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75728-AF85-47C1-AD2D-430DC05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CB9983-3AD1-4DBD-9241-5BA3044C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B8E64-E04D-4B95-B5E5-E34728B5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985EF9-CA5B-42E5-953F-5820907F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DF7134-22CB-4FF6-9C54-A7F64F39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4B14D9-0AB0-4326-9962-4DD1494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D2F1C-0BD9-462E-B491-0E465594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D4E601-7204-4EC2-BE3E-12841FC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990E63-CBED-4982-B854-59C99CB4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B1DF78-A74F-48B5-82C9-CC0F1F8A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C3B355-1482-44A7-B10E-1285118E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4B63BC-0A03-424A-B62A-9C533289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7A1479-CA61-4144-95BB-C4469E0D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F222-E0C9-41AB-9891-F53457E5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FC8921-434D-4EE4-98A3-13AFD19B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DDA6BC-BA7B-480D-8E7F-2A8578BE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ED6BB1-0577-4246-A71E-097F7731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C00CF-0733-458F-9CFF-045B43F5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4ED615-EC9B-461B-8836-556FEB5B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706A3-887F-41A7-BD97-4E3B711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E3E2BA-5E7A-4803-A525-703F1C72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CE9C57-66EB-4838-B486-D08D2022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F6B60E-98FB-4114-AB58-DE5ACB41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85FAF4-C1B2-467D-B46F-1A9DE27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8FDF-1D0F-4B21-BCF2-4139910C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6BB6A9-70F2-4A1A-AD0E-4371E1D0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8D2061-1F66-4ED0-8451-63486A6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843ACA-F475-4DD2-9AF8-F3CE9C08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08177A-0991-4CA9-B35D-E9F515E6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B28821-4386-4BF4-A574-277DB545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E62EDB-0D74-4EB8-BF1E-7482B73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C98EF6-89F7-4B19-8168-434FD81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E6810-4237-4FD7-A574-3C8E778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FC4185-E539-4E98-BBCB-E76D86F3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4E8035-5ADB-4B23-BBDD-058868D6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5D0-F81A-466B-8D1D-1D831EF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4634-D159-4A16-9B58-34B771A4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791CC1-9F69-4505-9207-417F5623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73228-2A2B-4868-8A91-99EB4CAA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5E21CD-A62F-48F2-A26D-869A35BF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D866B-CC71-4730-AA3A-8F5806BE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02522A-7961-49AA-9661-41BF2C8B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10F457-65F6-4C05-A89B-7C47D906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5DC5DE-7C37-4520-8E21-2816355A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58C3EF-E99F-4284-BD3D-719FE382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ABBC47-02B3-4165-8A83-E680678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F2B490-2B25-4589-B3CD-C95FFF60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D46E7-614B-41C1-8361-6488E80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6C8854-0C8B-4A18-81F2-0E3802FC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54B48B-D16D-4AA4-A3FD-5802718E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5012EB-0F82-475F-B861-B3DB77F8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1F13D6-D7D4-411C-9001-6EF39070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7EC701-CD84-4E4E-84E2-90A7608A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9498CF-8B41-48A9-B74E-B4E99F66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9B3823-0635-428B-B73A-7F7D15D9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216CB-7B04-4296-8E6F-53E3316A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07C8C2-4599-4C42-8BF6-C6706347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D0BA9B-C9C9-4410-B8FD-D4A4BC5B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8D55-8A26-475A-A405-80D439DD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9756CF-0230-4DE8-93E0-A3E024BE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72539C-4EEE-4F9C-8502-DCFB114F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127F96-CC3C-4ACA-A129-E35DE270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94BCED-51EE-444E-8643-005B3442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8FE512-8017-441F-8758-58446094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75A4A1-39A5-446F-8068-2BDDBFEA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FB80EB-0705-4B88-BBF5-09CD7E6E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B04B29-39C5-4F28-A21A-C21448E3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A944B9-7336-4103-8643-B4DBBAB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62E631-E0E5-4A99-B141-1E815373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D24C-E22D-49CB-9300-2F8D8F2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E06A59-E194-4F92-968D-2C0D8F9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8D5E8-2821-4751-BDD4-EBDFF66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710F1A-D402-4C14-A66C-0509C1E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05FA6A-2B6F-46CD-ABAC-64DCF1D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EBB08B-1FF0-4008-8AAA-2B663460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FDC29-593D-457E-81B3-06DA63FD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6B9BF4-6C8B-41CC-91F8-B0F24E7E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9D573AE-7583-4EDC-A0B8-65D21D05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646561-B4AB-4CA9-BF08-D1C785C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FB9ADD-4A36-490F-8193-0D82821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7B2B-169A-4C80-B18D-18BA156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C2CA2F-9546-4E4A-A946-569B8D34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F731AF-79B1-4D21-8C8B-15B77EE7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8E23E4-DB23-427E-B448-E15A2FE3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D50E90-55A1-498A-A781-5307C4D3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8A9DCC-1BA2-4C40-A0C3-E07403BC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9005A8-793B-459F-83CF-F60560CB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C8BB65-C0BA-4BFA-9A20-AC439D4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22E73-C3CC-4928-B726-D24A8B5A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ED9F02-AE1F-41F7-A392-29956E18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72C7BB-B3BE-4725-B805-87D85BB4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EE3C-32E1-4BE1-96EE-60109B8C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7BDCEC-1880-46C5-95FA-BB3CD45E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86D761-DF75-4084-83E9-D56F1302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FD9B29-4311-4ECF-BA5C-B59BAB07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E87BBD-0189-45BF-8D93-4801096F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762794-7742-408E-9AF0-58A143C7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390A4C-53DD-4FD4-A1AC-FC9CC6A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3C5E4B-DC10-4178-8D39-4E038E4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C6AEB7-ECE3-483B-AFD9-443FC8E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539761-06D9-4A9C-85C5-300A382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61C967-601F-457C-85DB-E4FF0CC3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AF152-79B2-45FA-9627-F2A4FDE4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8053FB-C9EB-46ED-9B51-FF79DCC1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086A1B-367A-4DE9-BF79-4CBC6BDA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CFC945-D0C5-43AE-BEBB-EFBC1CDA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2D6A69-03B4-4CC0-9F79-5C46D50A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2BF868-E3CC-40E1-88C2-BF2D1E50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C61FEF-782A-4D2F-8989-CF480CCA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5A7204-68BB-42FB-804A-8EA74F2F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5F4E56-DD5B-41D8-B904-D1E6C1C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67FF12-E9D9-421C-A3F2-02FA066D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9D44DC-7BE7-4F27-A35E-3341BCA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5E28-A63F-498C-B313-44A35216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F9F4D9-E397-4B2A-8FAC-3E298A04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DAD633-828B-4CFA-A014-B798C0B2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BD155-84D6-449B-B8BF-085AAD78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352B-FD69-44D1-83CD-4DD75A09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CA31-62CB-4C38-8335-0E38EF36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673-7E3D-4F3E-ACA2-ACC3F792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7622D-3DFB-48D0-95FF-9FFCAAA8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FFE73-3204-458A-9950-1EAD4028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1B17-40BD-4A8B-9435-09DFC4D8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9CF16-9C5F-427C-9E00-8B9597E9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F5AE-077F-49EE-947E-5144FFC6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95E48-12CD-459C-A1DA-EE209EC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79A7-73C4-4751-B8F2-EC9C8696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B546-6403-41E0-B9AD-7350B8A4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2CDA-A788-4827-94D2-9727C8F8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468B-6FDC-4676-B9D8-A39BD8C7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991-699A-4EA4-8601-C2C6BA0F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635E-8D40-4BBA-AB06-41A7F43D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CA91-644C-4337-8959-B608520F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71D4-0873-4B71-BDC4-BD66BB3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5815B-778D-4E40-8780-683D15F7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E891-F406-45BA-A987-64F85F0A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E930-F437-4784-9110-2CB5AB1C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BBD7B-0A08-4F45-BC24-6DE28DA7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FABA-A424-4806-8A45-1270C3A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00C4-BD24-412A-BC7C-B5DAC163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525E5-C118-4FBF-B051-99DF9994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DAF-DD61-4BF8-B55D-6ACCFDBC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1173-2644-44BA-8657-753A926D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A745-DB83-4A73-B16B-59FE2C78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B28F3-6FA7-457A-B542-BC38600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5A36E-6642-43A8-AD03-09262F18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4039-23E7-4F59-853C-6058EF36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80107-2D85-4FD1-A64A-71656B7D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D3357-33AF-4F0B-956C-EA68A4DD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2719-CEED-495A-A80E-F36ECF3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FC40-69F0-4DD9-8EEC-476BAFE6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393D8-A0B2-4580-8060-6C125D8E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626-4CC9-4AEE-9BCA-0A746DC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0DF2-1964-4B00-A2C3-960505AC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61A9A-F0D7-4C14-96E0-BEAC33C1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16718-8139-4725-B8C7-1506AE77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C98D-8049-47D4-B07D-B6DBEFB7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DD20-A639-4DFF-82D0-7222233E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CAB03-B3F7-4C8F-ADE5-950FFA0B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4C0A-BC62-4524-9441-71BB0FE2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432CE-AB38-411D-B772-A7F90C7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CB00-A2AF-4D57-8B00-42E5458F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29F3-1DDF-45A5-9514-C68BB2FE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00E-0936-406C-9A53-370CF5CF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4EDAF-B58C-4F31-88FE-B66C523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6645F-6C7F-4F6A-8F3D-515329B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A6617-8DCC-4259-BB37-962ECE54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E9B2C-5DE8-45EF-B5F1-1672F21A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37717-B9D5-4EE5-BDDE-4FCD0F95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575AA-4A93-4E6C-B9D3-C981724A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6BD11-5BF9-4A8E-A32E-BDF403B4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4FFBF-9BB1-40DD-B3DB-88E3DE3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4CEE-F520-4118-8689-9D250257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E0218-302B-4C58-A99E-21F21CC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102-8CBF-4E55-A4AD-42B5571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FC8A-4485-458D-80E9-871BF539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F4D37-2127-4E5E-AC36-CA651CE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26DC-B33A-429D-915D-704B5064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C106-F019-48A0-AA65-EC2217D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D1951-B779-4FE2-9E31-FE925CC0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FFFCA-C5F3-4F36-B10C-A5DC4577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9B2DF-5A73-4E99-A72D-FDDFA44B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DE7B1-5DF8-4B5D-96F1-FCABF41B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8C072-55B5-40E3-B54D-0FBF5374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88FE3-3D55-466C-8D7B-ABF59818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3D47-7FCA-4316-B5E0-D51BE0B7D1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9C4D-4154-44E8-B501-B3CC79A5D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11C7-45A7-41A1-8A9A-99F7CFBB3B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64B9-2374-477E-84DB-1E7AB6A8D7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337D-F9DD-4A35-8F00-209C64B93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6A1-0780-4479-B82B-26FA55F43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DCA-ECBB-4611-89D8-FA0B5CB8F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418C-2CA1-4F02-B999-FD44BDA5B5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9F1-22D3-451E-8AA7-0FE827B343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3427-F3C3-45B4-9BAD-C00DC39E09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6264-894B-4856-A110-2AAC9D42A4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75EF-455D-496F-8A53-2141601B57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0F50-C5B1-40C6-926B-73149C3FC6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685-7758-4BD5-BBCA-C047019E3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987B-41DD-47B9-AAC2-EAA9A4D22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DFE-3271-4090-817F-8A181C786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E372-BCE1-4815-98C8-993F1E33C2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10F-DF33-4BB7-8D59-4C4A2DE36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CD9A-E73B-4240-8D1A-2378FEA91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CD5B-059A-4983-AC19-AB1645136A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70B4-AAE3-485F-99D3-B5F80EC6AB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E44-BF7B-4A9C-B914-4B41968452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9ED5-9D22-4935-B2E8-A42A478F44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FED-BEB9-4F18-B685-0CCA63F2D3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D485-5304-4555-8E49-403E332450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D50-3028-420A-88DA-719CFC8889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C8C1-ED20-4A26-97F1-9AA5CE8A92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791A-E25B-438B-A0AF-FB40331DEB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0282-8687-454E-8627-531A6ED25D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0B5C-7FAE-4A6A-AE0B-1A7791437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0CB5-3458-4C7D-8797-72A0BA995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CA43-98FD-471F-BE29-61BABB36E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8C2-067F-4BEB-B46C-C7E62337C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BD2-1993-4A5E-9765-F9503F18E7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01C4-2528-4C4D-9E9E-9C4E4982B9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687-E77E-4356-ACF7-7558E7A194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40D-F730-43DF-B245-CD34E7AB9E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1D84-FDCE-46BC-8024-193573051B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B0A4-5352-4781-A452-D02EFEF04C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0D68-72FF-4C98-8EEB-9B5446B4E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A01-7445-4278-BA0D-3F5C3918B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4371-7FBE-48DD-95A9-843F2C56A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6AC4-5A85-4F5F-9FF6-CD9E362E8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FD6-6023-4E9D-B9F7-3DCEFE157B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B718-8A91-499F-9DFE-CB074345E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9B45-FE3D-4BDB-B002-89640BB500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DDF-4406-4302-9F52-F5057AC23F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A67B-6300-487F-B657-7F8781C719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83B8-50E8-4EC3-A215-917B72DFA1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A22F-6D65-436A-BF47-A1F1FE714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3.png"/><Relationship Id="rId4" Type="http://schemas.openxmlformats.org/officeDocument/2006/relationships/image" Target="../media/image3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35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3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104760" y="3090960"/>
            <a:ext cx="8934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69633" descr=""/>
          <p:cNvPicPr/>
          <p:nvPr/>
        </p:nvPicPr>
        <p:blipFill>
          <a:blip r:embed="rId1"/>
          <a:stretch/>
        </p:blipFill>
        <p:spPr>
          <a:xfrm>
            <a:off x="295200" y="2895480"/>
            <a:ext cx="8553600" cy="106704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2"/>
          <a:stretch/>
        </p:blipFill>
        <p:spPr>
          <a:xfrm>
            <a:off x="3059280" y="3414600"/>
            <a:ext cx="316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8" name="组合 68611"/>
          <p:cNvGrpSpPr/>
          <p:nvPr/>
        </p:nvGrpSpPr>
        <p:grpSpPr>
          <a:xfrm>
            <a:off x="233280" y="876240"/>
            <a:ext cx="8677440" cy="5505480"/>
            <a:chOff x="233280" y="876240"/>
            <a:chExt cx="8677440" cy="5505480"/>
          </a:xfrm>
        </p:grpSpPr>
        <p:pic>
          <p:nvPicPr>
            <p:cNvPr id="1459" name="图片 68609" descr=""/>
            <p:cNvPicPr/>
            <p:nvPr/>
          </p:nvPicPr>
          <p:blipFill>
            <a:blip r:embed="rId1"/>
            <a:stretch/>
          </p:blipFill>
          <p:spPr>
            <a:xfrm>
              <a:off x="233280" y="876240"/>
              <a:ext cx="8677440" cy="550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图片 68610" descr=""/>
            <p:cNvPicPr/>
            <p:nvPr/>
          </p:nvPicPr>
          <p:blipFill>
            <a:blip r:embed="rId2"/>
            <a:stretch/>
          </p:blipFill>
          <p:spPr>
            <a:xfrm>
              <a:off x="5537160" y="2089080"/>
              <a:ext cx="3313080" cy="237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1" name="Picture 1" descr=""/>
          <p:cNvPicPr/>
          <p:nvPr/>
        </p:nvPicPr>
        <p:blipFill>
          <a:blip r:embed="rId3"/>
          <a:stretch/>
        </p:blipFill>
        <p:spPr>
          <a:xfrm>
            <a:off x="7956720" y="141300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4"/>
          <a:stretch/>
        </p:blipFill>
        <p:spPr>
          <a:xfrm>
            <a:off x="5940360" y="580536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67586" descr=""/>
          <p:cNvPicPr/>
          <p:nvPr/>
        </p:nvPicPr>
        <p:blipFill>
          <a:blip r:embed="rId1"/>
          <a:stretch/>
        </p:blipFill>
        <p:spPr>
          <a:xfrm>
            <a:off x="266760" y="981000"/>
            <a:ext cx="8610480" cy="382896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67585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3267000" cy="20001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3"/>
          <a:stretch/>
        </p:blipFill>
        <p:spPr>
          <a:xfrm>
            <a:off x="1187280" y="4235400"/>
            <a:ext cx="1440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66561" descr=""/>
          <p:cNvPicPr/>
          <p:nvPr/>
        </p:nvPicPr>
        <p:blipFill>
          <a:blip r:embed="rId1"/>
          <a:stretch/>
        </p:blipFill>
        <p:spPr>
          <a:xfrm>
            <a:off x="304920" y="592200"/>
            <a:ext cx="8534160" cy="2724120"/>
          </a:xfrm>
          <a:prstGeom prst="rect">
            <a:avLst/>
          </a:prstGeom>
          <a:ln w="0">
            <a:noFill/>
          </a:ln>
        </p:spPr>
      </p:pic>
      <p:pic>
        <p:nvPicPr>
          <p:cNvPr id="1467" name="图片 66562" descr=""/>
          <p:cNvPicPr/>
          <p:nvPr/>
        </p:nvPicPr>
        <p:blipFill>
          <a:blip r:embed="rId2"/>
          <a:stretch/>
        </p:blipFill>
        <p:spPr>
          <a:xfrm>
            <a:off x="868320" y="3443400"/>
            <a:ext cx="7981920" cy="32954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3"/>
          <a:stretch/>
        </p:blipFill>
        <p:spPr>
          <a:xfrm>
            <a:off x="826920" y="230508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66564" descr=""/>
          <p:cNvPicPr/>
          <p:nvPr/>
        </p:nvPicPr>
        <p:blipFill>
          <a:blip r:embed="rId4"/>
          <a:stretch/>
        </p:blipFill>
        <p:spPr>
          <a:xfrm>
            <a:off x="6586560" y="3441600"/>
            <a:ext cx="2286000" cy="2181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" descr=""/>
          <p:cNvPicPr/>
          <p:nvPr/>
        </p:nvPicPr>
        <p:blipFill>
          <a:blip r:embed="rId5"/>
          <a:stretch/>
        </p:blipFill>
        <p:spPr>
          <a:xfrm>
            <a:off x="684360" y="2852640"/>
            <a:ext cx="6481440" cy="47628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6"/>
          <a:stretch/>
        </p:blipFill>
        <p:spPr>
          <a:xfrm>
            <a:off x="468360" y="337176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7"/>
          <a:stretch/>
        </p:blipFill>
        <p:spPr>
          <a:xfrm>
            <a:off x="250920" y="400536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8"/>
          <a:stretch/>
        </p:blipFill>
        <p:spPr>
          <a:xfrm>
            <a:off x="0" y="452268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9"/>
          <a:stretch/>
        </p:blipFill>
        <p:spPr>
          <a:xfrm>
            <a:off x="0" y="509904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10"/>
          <a:stretch/>
        </p:blipFill>
        <p:spPr>
          <a:xfrm>
            <a:off x="0" y="5734080"/>
            <a:ext cx="6481800" cy="476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11"/>
          <a:stretch/>
        </p:blipFill>
        <p:spPr>
          <a:xfrm>
            <a:off x="42840" y="6310440"/>
            <a:ext cx="6481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65537" descr=""/>
          <p:cNvPicPr/>
          <p:nvPr/>
        </p:nvPicPr>
        <p:blipFill>
          <a:blip r:embed="rId1"/>
          <a:stretch/>
        </p:blipFill>
        <p:spPr>
          <a:xfrm>
            <a:off x="247680" y="617400"/>
            <a:ext cx="8648640" cy="61246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" descr=""/>
          <p:cNvPicPr/>
          <p:nvPr/>
        </p:nvPicPr>
        <p:blipFill>
          <a:blip r:embed="rId2"/>
          <a:stretch/>
        </p:blipFill>
        <p:spPr>
          <a:xfrm>
            <a:off x="755640" y="2867040"/>
            <a:ext cx="4680000" cy="476280"/>
          </a:xfrm>
          <a:prstGeom prst="rect">
            <a:avLst/>
          </a:prstGeom>
          <a:ln w="0">
            <a:noFill/>
          </a:ln>
        </p:spPr>
      </p:pic>
      <p:grpSp>
        <p:nvGrpSpPr>
          <p:cNvPr id="1479" name="组合 65541"/>
          <p:cNvGrpSpPr/>
          <p:nvPr/>
        </p:nvGrpSpPr>
        <p:grpSpPr>
          <a:xfrm>
            <a:off x="5708520" y="2421000"/>
            <a:ext cx="3189240" cy="3213000"/>
            <a:chOff x="5708520" y="2421000"/>
            <a:chExt cx="3189240" cy="3213000"/>
          </a:xfrm>
        </p:grpSpPr>
        <p:pic>
          <p:nvPicPr>
            <p:cNvPr id="1480" name="图片 65539" descr=""/>
            <p:cNvPicPr/>
            <p:nvPr/>
          </p:nvPicPr>
          <p:blipFill>
            <a:blip r:embed="rId3"/>
            <a:stretch/>
          </p:blipFill>
          <p:spPr>
            <a:xfrm>
              <a:off x="5708520" y="2421000"/>
              <a:ext cx="3189240" cy="29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1" descr=""/>
            <p:cNvPicPr/>
            <p:nvPr/>
          </p:nvPicPr>
          <p:blipFill>
            <a:blip r:embed="rId4"/>
            <a:stretch/>
          </p:blipFill>
          <p:spPr>
            <a:xfrm>
              <a:off x="6156360" y="5157720"/>
              <a:ext cx="57636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2" name="Picture 1" descr=""/>
          <p:cNvPicPr/>
          <p:nvPr/>
        </p:nvPicPr>
        <p:blipFill>
          <a:blip r:embed="rId5"/>
          <a:stretch/>
        </p:blipFill>
        <p:spPr>
          <a:xfrm>
            <a:off x="468360" y="3400560"/>
            <a:ext cx="4680000" cy="4762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" descr=""/>
          <p:cNvPicPr/>
          <p:nvPr/>
        </p:nvPicPr>
        <p:blipFill>
          <a:blip r:embed="rId6"/>
          <a:stretch/>
        </p:blipFill>
        <p:spPr>
          <a:xfrm>
            <a:off x="684360" y="4005360"/>
            <a:ext cx="4679640" cy="4762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" descr=""/>
          <p:cNvPicPr/>
          <p:nvPr/>
        </p:nvPicPr>
        <p:blipFill>
          <a:blip r:embed="rId7"/>
          <a:stretch/>
        </p:blipFill>
        <p:spPr>
          <a:xfrm>
            <a:off x="755640" y="4581360"/>
            <a:ext cx="4680000" cy="4762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" descr=""/>
          <p:cNvPicPr/>
          <p:nvPr/>
        </p:nvPicPr>
        <p:blipFill>
          <a:blip r:embed="rId8"/>
          <a:stretch/>
        </p:blipFill>
        <p:spPr>
          <a:xfrm>
            <a:off x="826920" y="5157720"/>
            <a:ext cx="4680000" cy="47628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" descr=""/>
          <p:cNvPicPr/>
          <p:nvPr/>
        </p:nvPicPr>
        <p:blipFill>
          <a:blip r:embed="rId9"/>
          <a:stretch/>
        </p:blipFill>
        <p:spPr>
          <a:xfrm>
            <a:off x="826920" y="5734080"/>
            <a:ext cx="4680000" cy="47628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" descr=""/>
          <p:cNvPicPr/>
          <p:nvPr/>
        </p:nvPicPr>
        <p:blipFill>
          <a:blip r:embed="rId10"/>
          <a:stretch/>
        </p:blipFill>
        <p:spPr>
          <a:xfrm>
            <a:off x="755640" y="6353280"/>
            <a:ext cx="4680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64513" descr=""/>
          <p:cNvPicPr/>
          <p:nvPr/>
        </p:nvPicPr>
        <p:blipFill>
          <a:blip r:embed="rId1"/>
          <a:stretch/>
        </p:blipFill>
        <p:spPr>
          <a:xfrm>
            <a:off x="214200" y="814320"/>
            <a:ext cx="8715600" cy="563904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1" descr=""/>
          <p:cNvPicPr/>
          <p:nvPr/>
        </p:nvPicPr>
        <p:blipFill>
          <a:blip r:embed="rId2"/>
          <a:stretch/>
        </p:blipFill>
        <p:spPr>
          <a:xfrm>
            <a:off x="684360" y="252108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0" name="图片 64515" descr=""/>
          <p:cNvPicPr/>
          <p:nvPr/>
        </p:nvPicPr>
        <p:blipFill>
          <a:blip r:embed="rId3"/>
          <a:stretch/>
        </p:blipFill>
        <p:spPr>
          <a:xfrm>
            <a:off x="6586560" y="2562120"/>
            <a:ext cx="2266920" cy="323856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4"/>
          <a:stretch/>
        </p:blipFill>
        <p:spPr>
          <a:xfrm>
            <a:off x="611280" y="314172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5"/>
          <a:stretch/>
        </p:blipFill>
        <p:spPr>
          <a:xfrm>
            <a:off x="539640" y="364500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6"/>
          <a:stretch/>
        </p:blipFill>
        <p:spPr>
          <a:xfrm>
            <a:off x="468360" y="422100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1" descr=""/>
          <p:cNvPicPr/>
          <p:nvPr/>
        </p:nvPicPr>
        <p:blipFill>
          <a:blip r:embed="rId7"/>
          <a:stretch/>
        </p:blipFill>
        <p:spPr>
          <a:xfrm>
            <a:off x="324000" y="486900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8"/>
          <a:stretch/>
        </p:blipFill>
        <p:spPr>
          <a:xfrm>
            <a:off x="250920" y="537372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9"/>
          <a:stretch/>
        </p:blipFill>
        <p:spPr>
          <a:xfrm>
            <a:off x="0" y="5964120"/>
            <a:ext cx="604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63489" descr=""/>
          <p:cNvPicPr/>
          <p:nvPr/>
        </p:nvPicPr>
        <p:blipFill>
          <a:blip r:embed="rId1"/>
          <a:stretch/>
        </p:blipFill>
        <p:spPr>
          <a:xfrm>
            <a:off x="1128600" y="1214280"/>
            <a:ext cx="6886800" cy="442944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" descr=""/>
          <p:cNvPicPr/>
          <p:nvPr/>
        </p:nvPicPr>
        <p:blipFill>
          <a:blip r:embed="rId2"/>
          <a:stretch/>
        </p:blipFill>
        <p:spPr>
          <a:xfrm>
            <a:off x="1042920" y="1168560"/>
            <a:ext cx="7345440" cy="47592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1" descr=""/>
          <p:cNvPicPr/>
          <p:nvPr/>
        </p:nvPicPr>
        <p:blipFill>
          <a:blip r:embed="rId3"/>
          <a:stretch/>
        </p:blipFill>
        <p:spPr>
          <a:xfrm>
            <a:off x="971640" y="177336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" descr=""/>
          <p:cNvPicPr/>
          <p:nvPr/>
        </p:nvPicPr>
        <p:blipFill>
          <a:blip r:embed="rId4"/>
          <a:stretch/>
        </p:blipFill>
        <p:spPr>
          <a:xfrm>
            <a:off x="1042920" y="234936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" descr=""/>
          <p:cNvPicPr/>
          <p:nvPr/>
        </p:nvPicPr>
        <p:blipFill>
          <a:blip r:embed="rId5"/>
          <a:stretch/>
        </p:blipFill>
        <p:spPr>
          <a:xfrm>
            <a:off x="971640" y="2997360"/>
            <a:ext cx="7345440" cy="8632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" descr=""/>
          <p:cNvPicPr/>
          <p:nvPr/>
        </p:nvPicPr>
        <p:blipFill>
          <a:blip r:embed="rId6"/>
          <a:stretch/>
        </p:blipFill>
        <p:spPr>
          <a:xfrm>
            <a:off x="900000" y="396252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7"/>
          <a:stretch/>
        </p:blipFill>
        <p:spPr>
          <a:xfrm>
            <a:off x="900000" y="4581360"/>
            <a:ext cx="7345440" cy="4762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" descr=""/>
          <p:cNvPicPr/>
          <p:nvPr/>
        </p:nvPicPr>
        <p:blipFill>
          <a:blip r:embed="rId8"/>
          <a:stretch/>
        </p:blipFill>
        <p:spPr>
          <a:xfrm>
            <a:off x="900000" y="5157720"/>
            <a:ext cx="7345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62465" descr=""/>
          <p:cNvPicPr/>
          <p:nvPr/>
        </p:nvPicPr>
        <p:blipFill>
          <a:blip r:embed="rId1"/>
          <a:stretch/>
        </p:blipFill>
        <p:spPr>
          <a:xfrm>
            <a:off x="306360" y="115920"/>
            <a:ext cx="8658360" cy="1609560"/>
          </a:xfrm>
          <a:prstGeom prst="rect">
            <a:avLst/>
          </a:prstGeom>
          <a:ln w="0">
            <a:noFill/>
          </a:ln>
        </p:spPr>
      </p:pic>
      <p:pic>
        <p:nvPicPr>
          <p:cNvPr id="1506" name="图片 62466" descr=""/>
          <p:cNvPicPr/>
          <p:nvPr/>
        </p:nvPicPr>
        <p:blipFill>
          <a:blip r:embed="rId2"/>
          <a:stretch/>
        </p:blipFill>
        <p:spPr>
          <a:xfrm>
            <a:off x="819000" y="1773360"/>
            <a:ext cx="8001000" cy="499104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3"/>
          <a:stretch/>
        </p:blipFill>
        <p:spPr>
          <a:xfrm>
            <a:off x="684360" y="2867040"/>
            <a:ext cx="5616360" cy="47628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5616360" cy="476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" descr=""/>
          <p:cNvPicPr/>
          <p:nvPr/>
        </p:nvPicPr>
        <p:blipFill>
          <a:blip r:embed="rId5"/>
          <a:stretch/>
        </p:blipFill>
        <p:spPr>
          <a:xfrm>
            <a:off x="539640" y="4019400"/>
            <a:ext cx="5616720" cy="47628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" descr=""/>
          <p:cNvPicPr/>
          <p:nvPr/>
        </p:nvPicPr>
        <p:blipFill>
          <a:blip r:embed="rId6"/>
          <a:stretch/>
        </p:blipFill>
        <p:spPr>
          <a:xfrm>
            <a:off x="468360" y="4581360"/>
            <a:ext cx="5616360" cy="4762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7"/>
          <a:stretch/>
        </p:blipFill>
        <p:spPr>
          <a:xfrm>
            <a:off x="324000" y="5186520"/>
            <a:ext cx="561636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61441" descr=""/>
          <p:cNvPicPr/>
          <p:nvPr/>
        </p:nvPicPr>
        <p:blipFill>
          <a:blip r:embed="rId1"/>
          <a:stretch/>
        </p:blipFill>
        <p:spPr>
          <a:xfrm>
            <a:off x="595440" y="843120"/>
            <a:ext cx="7953120" cy="561024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1" descr=""/>
          <p:cNvPicPr/>
          <p:nvPr/>
        </p:nvPicPr>
        <p:blipFill>
          <a:blip r:embed="rId2"/>
          <a:stretch/>
        </p:blipFill>
        <p:spPr>
          <a:xfrm>
            <a:off x="468360" y="808200"/>
            <a:ext cx="6119640" cy="47592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" descr=""/>
          <p:cNvPicPr/>
          <p:nvPr/>
        </p:nvPicPr>
        <p:blipFill>
          <a:blip r:embed="rId3"/>
          <a:stretch/>
        </p:blipFill>
        <p:spPr>
          <a:xfrm>
            <a:off x="395280" y="141300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6120000" cy="47592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5"/>
          <a:stretch/>
        </p:blipFill>
        <p:spPr>
          <a:xfrm>
            <a:off x="395280" y="256536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6"/>
          <a:stretch/>
        </p:blipFill>
        <p:spPr>
          <a:xfrm>
            <a:off x="395280" y="309708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1" descr=""/>
          <p:cNvPicPr/>
          <p:nvPr/>
        </p:nvPicPr>
        <p:blipFill>
          <a:blip r:embed="rId7"/>
          <a:stretch/>
        </p:blipFill>
        <p:spPr>
          <a:xfrm>
            <a:off x="324000" y="36450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8"/>
          <a:stretch/>
        </p:blipFill>
        <p:spPr>
          <a:xfrm>
            <a:off x="324000" y="429264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1" descr=""/>
          <p:cNvPicPr/>
          <p:nvPr/>
        </p:nvPicPr>
        <p:blipFill>
          <a:blip r:embed="rId9"/>
          <a:stretch/>
        </p:blipFill>
        <p:spPr>
          <a:xfrm>
            <a:off x="324000" y="484020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1" descr=""/>
          <p:cNvPicPr/>
          <p:nvPr/>
        </p:nvPicPr>
        <p:blipFill>
          <a:blip r:embed="rId10"/>
          <a:stretch/>
        </p:blipFill>
        <p:spPr>
          <a:xfrm>
            <a:off x="250920" y="5416560"/>
            <a:ext cx="8353440" cy="47628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1" descr=""/>
          <p:cNvPicPr/>
          <p:nvPr/>
        </p:nvPicPr>
        <p:blipFill>
          <a:blip r:embed="rId11"/>
          <a:stretch/>
        </p:blipFill>
        <p:spPr>
          <a:xfrm>
            <a:off x="250920" y="5964120"/>
            <a:ext cx="83534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图片 70657" descr=""/>
          <p:cNvPicPr/>
          <p:nvPr/>
        </p:nvPicPr>
        <p:blipFill>
          <a:blip r:embed="rId1"/>
          <a:stretch/>
        </p:blipFill>
        <p:spPr>
          <a:xfrm>
            <a:off x="237960" y="560520"/>
            <a:ext cx="8668080" cy="618156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" descr=""/>
          <p:cNvPicPr/>
          <p:nvPr/>
        </p:nvPicPr>
        <p:blipFill>
          <a:blip r:embed="rId2"/>
          <a:stretch/>
        </p:blipFill>
        <p:spPr>
          <a:xfrm>
            <a:off x="611280" y="396252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1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4"/>
          <a:stretch/>
        </p:blipFill>
        <p:spPr>
          <a:xfrm>
            <a:off x="539640" y="508464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5"/>
          <a:stretch/>
        </p:blipFill>
        <p:spPr>
          <a:xfrm>
            <a:off x="468360" y="5661000"/>
            <a:ext cx="6048360" cy="4762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"/>
          <p:cNvPicPr/>
          <p:nvPr/>
        </p:nvPicPr>
        <p:blipFill>
          <a:blip r:embed="rId6"/>
          <a:stretch/>
        </p:blipFill>
        <p:spPr>
          <a:xfrm>
            <a:off x="539640" y="6237360"/>
            <a:ext cx="6048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43000" y="1471680"/>
            <a:ext cx="8658000" cy="39146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028000" y="198900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" descr=""/>
          <p:cNvPicPr/>
          <p:nvPr/>
        </p:nvPicPr>
        <p:blipFill>
          <a:blip r:embed="rId3"/>
          <a:stretch/>
        </p:blipFill>
        <p:spPr>
          <a:xfrm>
            <a:off x="8101080" y="373068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图片 71681" descr=""/>
          <p:cNvPicPr/>
          <p:nvPr/>
        </p:nvPicPr>
        <p:blipFill>
          <a:blip r:embed="rId1"/>
          <a:stretch/>
        </p:blipFill>
        <p:spPr>
          <a:xfrm>
            <a:off x="581040" y="838080"/>
            <a:ext cx="7981920" cy="568656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" descr=""/>
          <p:cNvPicPr/>
          <p:nvPr/>
        </p:nvPicPr>
        <p:blipFill>
          <a:blip r:embed="rId2"/>
          <a:stretch/>
        </p:blipFill>
        <p:spPr>
          <a:xfrm>
            <a:off x="539640" y="793800"/>
            <a:ext cx="7056720" cy="47628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" descr=""/>
          <p:cNvPicPr/>
          <p:nvPr/>
        </p:nvPicPr>
        <p:blipFill>
          <a:blip r:embed="rId3"/>
          <a:stretch/>
        </p:blipFill>
        <p:spPr>
          <a:xfrm>
            <a:off x="395280" y="1455840"/>
            <a:ext cx="7056360" cy="47628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4"/>
          <a:stretch/>
        </p:blipFill>
        <p:spPr>
          <a:xfrm>
            <a:off x="324000" y="2017800"/>
            <a:ext cx="7056360" cy="8348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1" descr=""/>
          <p:cNvPicPr/>
          <p:nvPr/>
        </p:nvPicPr>
        <p:blipFill>
          <a:blip r:embed="rId5"/>
          <a:stretch/>
        </p:blipFill>
        <p:spPr>
          <a:xfrm>
            <a:off x="324000" y="2997360"/>
            <a:ext cx="7056360" cy="83484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1" descr=""/>
          <p:cNvPicPr/>
          <p:nvPr/>
        </p:nvPicPr>
        <p:blipFill>
          <a:blip r:embed="rId6"/>
          <a:stretch/>
        </p:blipFill>
        <p:spPr>
          <a:xfrm>
            <a:off x="324000" y="3933720"/>
            <a:ext cx="8424720" cy="8352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" descr=""/>
          <p:cNvPicPr/>
          <p:nvPr/>
        </p:nvPicPr>
        <p:blipFill>
          <a:blip r:embed="rId7"/>
          <a:stretch/>
        </p:blipFill>
        <p:spPr>
          <a:xfrm>
            <a:off x="179280" y="4911840"/>
            <a:ext cx="8425080" cy="43164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" descr=""/>
          <p:cNvPicPr/>
          <p:nvPr/>
        </p:nvPicPr>
        <p:blipFill>
          <a:blip r:embed="rId8"/>
          <a:stretch/>
        </p:blipFill>
        <p:spPr>
          <a:xfrm>
            <a:off x="250920" y="5516640"/>
            <a:ext cx="8424720" cy="47628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" descr=""/>
          <p:cNvPicPr/>
          <p:nvPr/>
        </p:nvPicPr>
        <p:blipFill>
          <a:blip r:embed="rId9"/>
          <a:stretch/>
        </p:blipFill>
        <p:spPr>
          <a:xfrm>
            <a:off x="250920" y="6035760"/>
            <a:ext cx="8424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7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2" dur="10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59410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86800" cy="2133720"/>
          </a:xfrm>
          <a:prstGeom prst="rect">
            <a:avLst/>
          </a:prstGeom>
          <a:ln w="0">
            <a:noFill/>
          </a:ln>
        </p:spPr>
      </p:pic>
      <p:pic>
        <p:nvPicPr>
          <p:cNvPr id="1437" name="图片 59411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676680" cy="215280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3"/>
          <a:stretch/>
        </p:blipFill>
        <p:spPr>
          <a:xfrm>
            <a:off x="8028000" y="221940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58373" descr=""/>
          <p:cNvPicPr/>
          <p:nvPr/>
        </p:nvPicPr>
        <p:blipFill>
          <a:blip r:embed="rId1"/>
          <a:stretch/>
        </p:blipFill>
        <p:spPr>
          <a:xfrm>
            <a:off x="2771640" y="3645000"/>
            <a:ext cx="3781440" cy="2562120"/>
          </a:xfrm>
          <a:prstGeom prst="rect">
            <a:avLst/>
          </a:prstGeom>
          <a:ln w="0">
            <a:noFill/>
          </a:ln>
        </p:spPr>
      </p:pic>
      <p:pic>
        <p:nvPicPr>
          <p:cNvPr id="1440" name="图片 5837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553600" cy="218124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3"/>
          <a:stretch/>
        </p:blipFill>
        <p:spPr>
          <a:xfrm>
            <a:off x="8101080" y="164304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57352" descr=""/>
          <p:cNvPicPr/>
          <p:nvPr/>
        </p:nvPicPr>
        <p:blipFill>
          <a:blip r:embed="rId1"/>
          <a:stretch/>
        </p:blipFill>
        <p:spPr>
          <a:xfrm>
            <a:off x="247680" y="1052640"/>
            <a:ext cx="8648640" cy="215244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57353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3143160" cy="284796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1" descr=""/>
          <p:cNvPicPr/>
          <p:nvPr/>
        </p:nvPicPr>
        <p:blipFill>
          <a:blip r:embed="rId3"/>
          <a:stretch/>
        </p:blipFill>
        <p:spPr>
          <a:xfrm>
            <a:off x="8028000" y="221940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56324" descr=""/>
          <p:cNvPicPr/>
          <p:nvPr/>
        </p:nvPicPr>
        <p:blipFill>
          <a:blip r:embed="rId1"/>
          <a:stretch/>
        </p:blipFill>
        <p:spPr>
          <a:xfrm>
            <a:off x="3564000" y="3357720"/>
            <a:ext cx="2133360" cy="3267000"/>
          </a:xfrm>
          <a:prstGeom prst="rect">
            <a:avLst/>
          </a:prstGeom>
          <a:ln w="0">
            <a:noFill/>
          </a:ln>
        </p:spPr>
      </p:pic>
      <p:pic>
        <p:nvPicPr>
          <p:cNvPr id="1446" name="图片 56325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8667720" cy="217152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3"/>
          <a:stretch/>
        </p:blipFill>
        <p:spPr>
          <a:xfrm>
            <a:off x="8070840" y="198900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55300" descr=""/>
          <p:cNvPicPr/>
          <p:nvPr/>
        </p:nvPicPr>
        <p:blipFill>
          <a:blip r:embed="rId1"/>
          <a:stretch/>
        </p:blipFill>
        <p:spPr>
          <a:xfrm>
            <a:off x="247680" y="2028960"/>
            <a:ext cx="8648640" cy="280008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" descr=""/>
          <p:cNvPicPr/>
          <p:nvPr/>
        </p:nvPicPr>
        <p:blipFill>
          <a:blip r:embed="rId2"/>
          <a:stretch/>
        </p:blipFill>
        <p:spPr>
          <a:xfrm>
            <a:off x="7999560" y="321300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54276" descr=""/>
          <p:cNvPicPr/>
          <p:nvPr/>
        </p:nvPicPr>
        <p:blipFill>
          <a:blip r:embed="rId1"/>
          <a:stretch/>
        </p:blipFill>
        <p:spPr>
          <a:xfrm>
            <a:off x="214200" y="1268280"/>
            <a:ext cx="8715600" cy="1057320"/>
          </a:xfrm>
          <a:prstGeom prst="rect">
            <a:avLst/>
          </a:prstGeom>
          <a:ln w="0">
            <a:noFill/>
          </a:ln>
        </p:spPr>
      </p:pic>
      <p:pic>
        <p:nvPicPr>
          <p:cNvPr id="1451" name="图片 54277" descr=""/>
          <p:cNvPicPr/>
          <p:nvPr/>
        </p:nvPicPr>
        <p:blipFill>
          <a:blip r:embed="rId2"/>
          <a:stretch/>
        </p:blipFill>
        <p:spPr>
          <a:xfrm>
            <a:off x="668160" y="2492280"/>
            <a:ext cx="8296560" cy="288612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3"/>
          <a:stretch/>
        </p:blipFill>
        <p:spPr>
          <a:xfrm>
            <a:off x="4788000" y="367344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52231" descr=""/>
          <p:cNvPicPr/>
          <p:nvPr/>
        </p:nvPicPr>
        <p:blipFill>
          <a:blip r:embed="rId1"/>
          <a:stretch/>
        </p:blipFill>
        <p:spPr>
          <a:xfrm>
            <a:off x="295200" y="768240"/>
            <a:ext cx="8553600" cy="582948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" descr=""/>
          <p:cNvPicPr/>
          <p:nvPr/>
        </p:nvPicPr>
        <p:blipFill>
          <a:blip r:embed="rId2"/>
          <a:stretch/>
        </p:blipFill>
        <p:spPr>
          <a:xfrm>
            <a:off x="2556000" y="123984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" descr=""/>
          <p:cNvPicPr/>
          <p:nvPr/>
        </p:nvPicPr>
        <p:blipFill>
          <a:blip r:embed="rId3"/>
          <a:stretch/>
        </p:blipFill>
        <p:spPr>
          <a:xfrm>
            <a:off x="5508720" y="5689440"/>
            <a:ext cx="576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8:0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